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B5F-9C0A-482F-BD07-856566E7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3CE-951B-4D48-82AD-A2B68E8F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955-79E3-4B00-A35D-30C0782F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858-05CF-4E6F-BCEE-5A5267F0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AD9-9447-476C-BDA7-34FFD87A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7B4-2E27-4B26-93D9-91621F2E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830-BAAC-417E-9308-21AE33D0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DAB-54C0-4894-8147-3EA4F1ED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34A-FA81-4B28-95AA-18779719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E06-0DD4-4A65-9EF9-52EFF300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E68-EC27-4014-A8B2-84454BC6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211-575B-476A-B690-5C0EF4ED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1E60-1938-47DA-8964-18443C031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yota Corolla Gas Mile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5562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ource: 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http://c2cmsp.wikispaces.com/Evid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7640" y="106668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m &amp; Joh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600200"/>
            <a:ext cx="8001000" cy="3733920"/>
          </a:xfrm>
          <a:prstGeom prst="rect">
            <a:avLst/>
          </a:prstGeom>
          <a:solidFill>
            <a:srgbClr val="cc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raph, table…something that tell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clearly and at a gl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s and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295280"/>
          <a:ext cx="8153280" cy="42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15328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hypothesis was that curb weight and horsepower was related to gas mile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ound that our data was inclusive to determine the actual cause of MPG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We suspect a government cover up by the Japanese  to increase car sale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114800"/>
            <a:ext cx="739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d a three mpg increase during 2001-2002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d the curb wt. Increase of 102 lbs. Between 2002-200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20:54:18Z</dcterms:created>
  <dc:creator>Molly Schauffler</dc:creator>
  <dc:description/>
  <dc:language>en-US</dc:language>
  <cp:lastModifiedBy>Social Studies</cp:lastModifiedBy>
  <dcterms:modified xsi:type="dcterms:W3CDTF">2009-01-14T23:26:50Z</dcterms:modified>
  <cp:revision>9</cp:revision>
  <dc:subject/>
  <dc:title>PowerPoint Presentation</dc:title>
</cp:coreProperties>
</file>